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041-2B5D-4C9D-834C-5552E42E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DD1C-9E4B-4E72-A685-6CAE736A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B546-68A9-4364-B6D7-3206CC4F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F40-D70D-4608-A35B-D524D084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DF0A-EF27-4209-B18E-EE45BDA0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994-E5C3-4C4D-BB04-D6C3E50F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5D6-A315-4DE4-9C9F-C68C45F8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4D03-4299-44E3-8427-14761BBB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92D-FE5B-491A-9A22-129EB3E5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8333-21D9-48D5-8F42-5C0256EE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9C89-8FFC-441E-BDA2-E0A34254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2D00-6C75-49F0-B9F2-0D825CCE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243F-172E-4CC8-B3EB-43053D2BB0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a New Conservatis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969–198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pter 3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IVI7233704"/>
          <p:cNvPicPr/>
          <p:nvPr/>
        </p:nvPicPr>
        <p:blipFill>
          <a:blip r:embed="rId2"/>
          <a:stretch/>
        </p:blipFill>
        <p:spPr>
          <a:xfrm>
            <a:off x="2257560" y="533520"/>
            <a:ext cx="472572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ion of 198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DIVI7233TB3201"/>
          <p:cNvPicPr/>
          <p:nvPr/>
        </p:nvPicPr>
        <p:blipFill>
          <a:blip r:embed="rId2"/>
          <a:srcRect l="0" t="15847" r="0" b="0"/>
          <a:stretch/>
        </p:blipFill>
        <p:spPr>
          <a:xfrm>
            <a:off x="228600" y="2438280"/>
            <a:ext cx="84582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nald Reaga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mestic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agan: “Are you better off now than you were 4 years ago?”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744120" indent="-318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agan blamed country’s economic problems on high government spending (Keynesian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aganomics/Supply-side economics—cut taxes to encourage productive private investment (more jobs more tax revenu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Geneva"/>
              </a:rPr>
              <a:t>Deregulation: Many regulations reduc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ivil Rights not a priority (Women, Homosexuals, and African American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ign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ajor military expansion under Reag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agan escalates arms ra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DI initiativ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nfrontation in Central Americ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stable governments (U.S. intervention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ran-Contra Affai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ore trouble in the Middle Ea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upport of Israel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ebanon disast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ld War eases/end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985–1988: Reagan-Gorbachev summi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on Trends in American 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al Right preaches against the decay of society because of liberalis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ditional American family gave way to more diverse living arrang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orce rates ri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uble income famil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ngle-parent household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ay Liberation M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IDS epidemi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ains and setbacks for Wom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e v. Wa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ndra Day O’Conn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qual Rights Amendment fai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DIVI7233692"/>
          <p:cNvPicPr/>
          <p:nvPr/>
        </p:nvPicPr>
        <p:blipFill>
          <a:blip r:embed="rId2"/>
          <a:stretch/>
        </p:blipFill>
        <p:spPr>
          <a:xfrm>
            <a:off x="609480" y="457200"/>
            <a:ext cx="7848720" cy="6081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DIVI7233691"/>
          <p:cNvPicPr/>
          <p:nvPr/>
        </p:nvPicPr>
        <p:blipFill>
          <a:blip r:embed="rId3"/>
          <a:stretch/>
        </p:blipFill>
        <p:spPr>
          <a:xfrm>
            <a:off x="1905120" y="990720"/>
            <a:ext cx="52196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DIVI"/>
          <p:cNvPicPr/>
          <p:nvPr/>
        </p:nvPicPr>
        <p:blipFill>
          <a:blip r:embed="rId2"/>
          <a:srcRect l="1664" t="2538" r="2429" b="4236"/>
          <a:stretch/>
        </p:blipFill>
        <p:spPr>
          <a:xfrm>
            <a:off x="380880" y="1752480"/>
            <a:ext cx="8483760" cy="373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DIVI"/>
          <p:cNvPicPr/>
          <p:nvPr/>
        </p:nvPicPr>
        <p:blipFill>
          <a:blip r:embed="rId3"/>
          <a:srcRect l="1083" t="2464" r="1849" b="2464"/>
          <a:stretch/>
        </p:blipFill>
        <p:spPr>
          <a:xfrm>
            <a:off x="762120" y="1447920"/>
            <a:ext cx="7584840" cy="4419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ouble Spots in Central America and the Caribbean and Middle Ea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IVI7233675"/>
          <p:cNvPicPr/>
          <p:nvPr/>
        </p:nvPicPr>
        <p:blipFill>
          <a:blip r:embed="rId2"/>
          <a:stretch/>
        </p:blipFill>
        <p:spPr>
          <a:xfrm>
            <a:off x="2209680" y="609480"/>
            <a:ext cx="45133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IVI7233683"/>
          <p:cNvPicPr/>
          <p:nvPr/>
        </p:nvPicPr>
        <p:blipFill>
          <a:blip r:embed="rId2"/>
          <a:stretch/>
        </p:blipFill>
        <p:spPr>
          <a:xfrm>
            <a:off x="1905120" y="304920"/>
            <a:ext cx="5268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ichard Nix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mestic Poli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imited success in domestic poli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panded some federal programs (EPA, affirmative action, etc…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hifts public perception of responsibility of White House by instituting  “New Federalism”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atergate scandal 197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iretapping by Nixon supporters in the Watergate Comple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oodward and Bernstein (Washington Post) began writing about story (received information from “Deep Throat”/Mark Fel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vestigation by Congress eventually leads to Nixon’s resignation  (197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ign Poli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5080" y="2174760"/>
            <a:ext cx="41940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étente—relaxation of tensions with Soviets by making friends with China (pitted the two superpowers against each oth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rought about Strategic Arms Limitation Treaty of 1972 (SAL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reates a plan to end Vietnam War with hon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970: spreads war to Laos and Cambodia which brings violent outbreaks back home (Kent Stat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ruce signed in 1973: U.S. withdraws, North Vietnamese remain in Sout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975: North Vietnam goes against truce reuniting the Vietnams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973: Yom Kippur War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C cut oil production 5% per month until Israel gave up occupied land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.S. realized vulnerability of increasing dependence on foreign oi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rald For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mestic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doned Richard Nix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owing Stagflation-Prices rose and real incomes fell (mid 70’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flation driven by oil prices, Federal budget deficits, global food short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ord-high interest ra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sed Democratic bills protecting the environment and civil righ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ign Poli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inued foreign relations with Ch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sinki Accord (1975)-Improve relations between the West and the Soviet Un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Oil Shocks:  Price Increases of Crude Oil and Gasoline, 1973–198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DIVI669"/>
          <p:cNvPicPr/>
          <p:nvPr/>
        </p:nvPicPr>
        <p:blipFill>
          <a:blip r:embed="rId2"/>
          <a:stretch/>
        </p:blipFill>
        <p:spPr>
          <a:xfrm>
            <a:off x="457200" y="2286000"/>
            <a:ext cx="8153280" cy="38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ion of 197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DIVI7233TB3101"/>
          <p:cNvPicPr/>
          <p:nvPr/>
        </p:nvPicPr>
        <p:blipFill>
          <a:blip r:embed="rId2"/>
          <a:srcRect l="0" t="15725" r="0" b="0"/>
          <a:stretch/>
        </p:blipFill>
        <p:spPr>
          <a:xfrm>
            <a:off x="457200" y="2819520"/>
            <a:ext cx="822960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immy C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mestic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 recess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gh inflation and high unem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government spending and high interest ra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.S. economic growth slow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.S. share of world markets declined (Steel Industry, Automobile, etc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gh technology prospered and big business diversifi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ustry shifted from East and Midwest to Sunbe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ign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419360" y="2174760"/>
            <a:ext cx="4724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mp David Accords 1978: Peace between Israel and Egy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in America involv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1979: Refused aid to Nicaraguan government against Sandinistas but assisted El Salvador against Marxist rebel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ranian Revolution of 197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homeini led Islamic fundamentalist and seized U.S. embassy and held 52 hostages after U.S. allowed deposed Shah into U.S. for medical treatme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79: Soviets invade Afghanist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apse of Déten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rter’s emphasis on human rights seen as repudiation of Détent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6:09:03Z</dcterms:created>
  <dc:creator>CMU</dc:creator>
  <dc:description/>
  <cp:keywords/>
  <dc:language>en-US</dc:language>
  <cp:lastModifiedBy>Thaddeus J. Brooks</cp:lastModifiedBy>
  <cp:lastPrinted>2008-10-31T13:01:12Z</cp:lastPrinted>
  <dcterms:modified xsi:type="dcterms:W3CDTF">2013-10-28T14:23:38Z</dcterms:modified>
  <cp:revision>58</cp:revision>
  <dc:subject/>
  <dc:title>CHAPTER 32 A CRISIS IN CONFIDENCE, 1969-1980</dc:title>
</cp:coreProperties>
</file>